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99EDDE-3E81-4025-BD63-59A150C20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358582-98BA-4990-8396-7DE386A4F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6A992-9B9E-4FA7-80C9-EC070A3EF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7A4880-4227-470A-A272-6AD49BA98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3CEAE6-9C80-46C4-96EF-7737E59E2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75EB74-1087-4055-BB12-E3B3529F0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B389D29-2F22-4788-A665-EB4F12289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3AD6-6CDE-4CCE-A8B7-28C2257623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B45D1A-66EC-402F-A75A-2467BDC3F2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23A6DBB-D9E9-4193-B900-99D1E835CC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00A69AF-DD0F-4AB0-A809-66A5EC796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B763EE-E023-4EA0-91C5-E4B3EC1DCF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57051-55A6-4621-93AD-483F571E5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0FC9ED-DBF0-48CB-9933-313356532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E473-A858-42E3-88E9-BD46C781A32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oval"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oval"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oval"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oval"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oval"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oval"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oval"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oval"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oval"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oval"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oval"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oval"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oval"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oval"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oval"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oval"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oval"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oval"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oval"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oval"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oval"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oval"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oval"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oval"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oval"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oval"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oval"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oval"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oval"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oval"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oval"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oval"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