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media/image8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28F57-4FC6-4E44-A2BF-D2A3AF889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20100-D561-4268-A4B4-A09E51A7C3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076ED-78B7-4EEA-9621-D092CFD359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49B25-3F3D-4A5E-92AA-C81AA9BC56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F483E-FDCC-4CF3-8B96-3F430F8444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B5387-268C-42F4-85B5-9F72380164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D2CED-3376-4F6A-BBE6-3A2389F8DA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98CA3-DC9C-4478-84DA-A7AB504FBE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BFC59-114F-480D-A68F-43D28CD2B7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9A231-5FDF-4615-8924-99E62A40F6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8AFD4-AD6F-4B1F-A3A6-CE4FF9B09C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3DD30-0704-4E87-A211-2E3D11EE4B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8B06-9B23-48F6-9F0F-9F62657CEC6C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3520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cryption and Security</a:t>
            </a:r>
            <a:br>
              <a:rPr sz="3200"/>
            </a:br>
            <a:br>
              <a:rPr sz="2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439040" y="3057480"/>
            <a:ext cx="1009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key (symmetric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sender and receiver both have a single key that both encrypts and decrypts a document.  Used for bulk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/Private(Asymmetric)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keys are required to encrypt and decrypt a document.  The partners publish and exchange the public keys and the private keys remain secret.  Used for key encryp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825480" y="993600"/>
          <a:ext cx="7677000" cy="49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993600"/>
                    <a:ext cx="767700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27120" y="571680"/>
          <a:ext cx="837396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571680"/>
                    <a:ext cx="837396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e Data Signatur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R (Non Repudiation of Recei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ies to the sender that the receiver of a message did receive the messag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o the sender the integrity of the message receiv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O (Non Repudiation of Orig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e identity of the sen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at the contents of the document have not been alter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-INT AS1 and AS2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Simple Mail Transfer Protocol (SMT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cures/encrypts data with Secure Multipurpose Internet Messaging Extensions (S/MIME) or Pretty Good Privacy (PGP) methods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d when S/MIME is the only available transport and transactions are relatively sm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Hypertext Transfer Protocol or Secured Hypertext Transfer Protocol (HTTP or HTTP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llows object oriented signatures on both object and se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S2 enabled products: Cyclone, webMethods, TIBCO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ng EDI-INT and encry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Techn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layered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hange encryp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signatur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 of encry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e Data Sign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: AS1 and A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 (EDI over the Internet)  - A set of standards that define a common method for sending EDI messages over the internet.  EDI-INT provides guidelines for encryption, decryption and confirmations of transactions through Message Disposition Notification (MD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ion - is the transformation of data, using algorithms, into a form that is unreadable by anyone who does not have the key to decrypt th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Techniques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 - Internet email security that uses SMTP(Simple Mail Transfer Protocol) for delivering S/MIME encrypted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 - Internet email security that uses HTTP and HTTP/S for delivering S/MIME encrypted trans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MIME  (Secure Multipurpose Internet Messaging Extension) - Provides encryption and digital signatures for Internet mail message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P (Pretty Good Privacy) - Data security using X.509 or PGP methods for key exchange and management as well as encryp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Protocol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FTP (Secure File Transfer Protocol) - enables the encryption of login information and file transfer over F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N (Virtual Private Network) - enables private networks to span from the end-user, across a public network (Internet) directly to the  home gateway of choice, another companies Intra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H (Secure Shell) - establishes a secure tunnel between two systems for enablement of a secure transport layer via encryption, cryptographic host authentication and integrity prote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S (Secure Hypertext Transfer Protocol) - enables the transfer of documents between serv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L (Secure Socket Layer) - a program layer that secures  the message transmission between two applications. (HTTP and FTP transmission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Application message - business purchase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EDI translator - EDI 850 X12 standard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SMTP - S/MIME message sent via FTP, HTTP, HTT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) TCP/IP - Standard internet service trans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55680" y="968400"/>
          <a:ext cx="6383520" cy="49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5680" y="968400"/>
                    <a:ext cx="63835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terchange encryption process - To ensure confidential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2400" y="1226880"/>
            <a:ext cx="734868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or - EDI 850 X12 standard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s the interchange to 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randomly generates a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rypts the interchange with the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ymmetric key is encrypted using the trading partner publ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loses the payload in a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ends the S/MIME envelope to the trading partner over the 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secured EDI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/MIME envelope is rem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rading partner uses private key (Asymmetric) to decrypt the received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ymmetric key is used to decrypt the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gital signature process - To ensure integrity, authentication and non repudiation of ori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generates a message digest to 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sender private key (Asymmetric)  to encrypt the message dig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included in the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message dig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extracted from the S/MIME envelo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public key (Asymmetric) of the sender to decrypt the message digest (this is when the sender is identified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Generates a new message digest from the decrypted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two message digest are compared to check the integrity of the interchan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8-27T18:10:21Z</cp:lastPrinted>
  <dcterms:modified xsi:type="dcterms:W3CDTF">2003-09-17T17:51:06Z</dcterms:modified>
  <cp:revision>918</cp:revision>
  <dc:subject/>
  <dc:title>IBM Software Group</dc:title>
</cp:coreProperties>
</file>