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B72F-CF6B-401E-9D3E-0BABB27DD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415A-89AF-45A4-923B-1B587EBF5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2A03-D008-4CC7-9001-D8E6214BB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78E6D-40B4-4BCF-9023-BE11E3E9C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60F8-2C12-4142-824C-56FCCDFD9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2EA5-A6CC-48A7-ADCB-310F3CB8F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2714-A808-4CB6-8273-145CFB960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32BC5-AF8D-4749-8090-5756C4A00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F43E7-2616-4D94-8184-3C6641070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D9CD-AEAC-49CC-9C5A-EB01C6052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DDFE0-586C-4A9F-865F-80F33E0D4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A1508-C439-4B46-9383-061F56413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F393-8396-475E-92FE-BCAC45ECCAE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General Discussion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ssion will be a general discussion on HIPAA and how you are implementing your HIPAA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special case, lets talk about it and help you find a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for others affected by HIPAA, just a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3T22:24:15Z</dcterms:modified>
  <cp:revision>856</cp:revision>
  <dc:subject/>
  <dc:title>IBM Software Group</dc:title>
</cp:coreProperties>
</file>