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6043-4EE3-4EC4-9DC5-4F862282C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8F09A-2CE5-4926-B634-973923EB7B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D489C-EEC0-4016-ADAF-1A39BD99BA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38BE7-2C22-4041-9A9A-468607A060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81369-9895-47E3-A125-D5ED006677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47F2B-EC40-4BD0-8719-B818D39C49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EE749-0A3F-42F1-ABF3-B4AC394722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9BD57-5B24-4610-991F-1743E10815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BEF80-7E72-4571-AEA9-9F894317B0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EA929-FBB0-407C-8DBD-E53D74B459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C66B7-C956-4136-93CF-D03A787497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969EC-C396-481B-86FC-9C20CD7577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F34A2-BEE1-4B5C-B7FF-DB1D700156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CEE7-05E9-4842-AE8A-A90A14827D89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figure Your Client For Versa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lient Preferences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Pre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s how the system is going to look to you each time you log 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r of each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862520" y="2019240"/>
          <a:ext cx="3598920" cy="34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2520" y="2019240"/>
                    <a:ext cx="359892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User Field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14000" y="1053720"/>
            <a:ext cx="6310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 Profiles User 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Custom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izes the field id of the last tab on the TP Profi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58920" y="2809800"/>
          <a:ext cx="6459480" cy="32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809800"/>
                    <a:ext cx="6459480" cy="32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stalling a second WDI database and running it.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going to review the changes needed to set up another WDI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used to set up other systems for Test, QA, 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consult the terms of your licensing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sep through this process during the de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t following files: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CONNECT TO EDIEC32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EDIEC2E to something meaningfull for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bind\bindgrnt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grnt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loadcsd1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edi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\loadec32.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1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4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5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6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Follow the latest Readme.txt file through all csd commands.</a:t>
            </a:r>
            <a:br>
              <a:rPr sz="20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ssuing the commands, make sure EDIEC32E is the same as the name you changed in the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reate db 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times in file  ALT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nect Client to the new databas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Client to the new database through View -&gt;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on command files to use the new databas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in the wdi.properties file used by M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way you run, the database you connect to will be determined by the Plan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7:53:29Z</dcterms:modified>
  <cp:revision>857</cp:revision>
  <dc:subject/>
  <dc:title>IBM Software Group</dc:title>
</cp:coreProperties>
</file>