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EE414-7A41-420F-A4B1-16EF7F158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E06F1-CB8B-4146-AD85-CCDB73B1E6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6DBDB-35EE-4628-86FE-9BE93EBD3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1C0A-EFED-4DF1-8903-4AA52B09F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95179-CF93-442C-B43F-48281B980B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EF319-4098-4461-8DCA-51D147F96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A28C6-A904-4077-923A-E7E01A47C2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DC51B-434F-4220-8271-5B55201D4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A3560-CF39-4AE4-A062-9791EAFDB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DEC1C-974D-4BEC-AB66-A5955D9D1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B3B95-EDFE-44FD-A216-7B450881E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44AA8-3B10-4D7F-8DFE-5867DC5F0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83A7-3EFB-48C6-8226-87D7D1A1965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400"/>
            <a:ext cx="52956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verview/Reasons to move to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run translation on your own PC - makes testing SO much easier!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place W2K server on laptop or desk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a bree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ving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DT mapping offers more functions than traditional send/receive mapping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18525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C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65560" y="1770120"/>
            <a:ext cx="25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r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14840" y="1668600"/>
            <a:ext cx="2438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hoice of target or source based mapping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or Target based mapping allows you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hard to determine at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concert maps from Target to Source or Source to Tar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upport ends for v3.1 Dec, 2004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DI 3.1 was announced to complete on Dec.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True Data Format to Data Format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F to DF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a DF to be converted to a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rect EDI Standard to EDI Standard Transform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EDI to EDI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XML DTD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XML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TD definition of the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Insert Commands Between Segment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ng commands between segments or elements to get force an operation or assignment based on a specific location of process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will be executed if the segment is there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 Segments or Loops must be available to process the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Comment Map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mapping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 groups to m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the map ove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xpanded Conditional process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functions available for conditio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Comp, StrCompI, StrCompN, StrCompNI, Find, F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Qoutes used to compare character strigs – “str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Qoutes used to compare numeric fields – ‘123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and Chaining using MQSeries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273320"/>
            <a:ext cx="73486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ing using MQSeries allows processing to continue after each step if des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d by any file being written to, if there is a Service Profile with that same name, it will b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have to use the file that triggers it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art a totally  different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implified HL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HL mapping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hi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 the remaining fields based on how you identified the parent/child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plex Qualification Mapping Suppor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ied mapping can be done by Occurrence, Value, or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s of these can also be used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asy to Use Mapping Command Editor 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in creating mapping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– click menus allow all mapping commands and functions to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nd function formats are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can be double clicked so that dragging and dropping of commands can be completed easily and acur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n be easily combined to get the desired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edictable mapping command exec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3160" y="18270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re executed in the order that they are listed in the mapping commands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electing Source or Target based mapping, you control the output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the Insert Within, Insert After, Insert Before and dragging and droping your commands in different order, you can achieve desired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RFH2 Header Access from the Mapper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  to retreive th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Property to se the Target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capability with WMQI using the MCD profile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D profiles available to load MQ h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rofiles and processing handled from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with TPI / Cyclone using EDICYCL Network program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integration to Cyclone Interchange to drop data on a queue and pass it in to 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on database for server and clien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Database for Server and Client allows ease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systems areas involved in the installation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Any to Any mapping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M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d improve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us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mmands and functions available at a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Validation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customer to create validation maps to confirm a set of business logic in a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reate 997’s as appropriate if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et validation level errors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Better Trace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2400" y="941040"/>
            <a:ext cx="73486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ifies mapping problem defini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l = the tracing lev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race messages are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c = component to be trac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les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 tracing. Only the first 256 byes of data in the buffer are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tracing. The entire contents of the buffer is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5:44:35Z</dcterms:modified>
  <cp:revision>860</cp:revision>
  <dc:subject/>
  <dc:title>IBM Software Group</dc:title>
</cp:coreProperties>
</file>